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956-6563-4D73-B58E-F8A64843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B84-EC99-4DCD-81A4-5C1FA866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465-CF51-406A-87D5-A04AD29A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EF5-2375-4089-8BB9-A1C1345B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3C05-0D10-4B09-A0E6-1FB803C3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FD9-5646-4127-97AF-20B90A43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E86-871C-4935-A081-4B3AB840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3B0-B7B8-49E6-8A03-1528838E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15A-8B31-45EB-BE53-33B35974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478-9D7F-4B99-98F1-EB1BE8C5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F78-5398-42CF-B8A7-96C012AC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238-D657-4C16-817A-F3666DF0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B6BA-77A8-43EF-B380-1A500D847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15:32:06Z</dcterms:created>
  <dc:creator>jobert</dc:creator>
  <dc:description/>
  <dc:language>en-US</dc:language>
  <cp:lastModifiedBy>jobert</cp:lastModifiedBy>
  <dcterms:modified xsi:type="dcterms:W3CDTF">2012-05-25T15:32:26Z</dcterms:modified>
  <cp:revision>1</cp:revision>
  <dc:subject/>
  <dc:title>Slide 1</dc:title>
</cp:coreProperties>
</file>